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3B4-AA71-4EB4-B105-2C494EA017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F78B-90F6-4CED-A6B2-544D3537EDC1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ECA-C5E7-487D-A0F6-12EB106F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DFB-DF18-4708-B8C0-83FC26B9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65A-7D49-4D89-908D-A14B7773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51C-522E-4975-95A8-E1C1244D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CDC-FE72-4F04-84A7-3D67444B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27E9-406E-48CA-9C81-C271A73C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A744-56A3-403D-9007-F5ED23C4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49E5-63A7-4493-AEE6-04C05298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7E4A-F2DC-46EC-A27B-B5B0A04F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AA15-AF52-44C0-A073-AB8AEDB3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5C8C-75D0-4F14-B6F5-E3F8F2E5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82A-EA55-4C67-8A71-632DDD30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4976-B86C-4B05-A068-3A9EC456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ADD8-3557-4F31-9CCA-A92F9270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1593-3A6E-4B56-B289-997F5CA6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3588-B54B-44B9-B443-8DC5BADF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D3FE-4C24-49BF-85DD-28EA4B49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BE97-600A-4315-A083-DDE76D1C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8576-0D92-4402-BB41-D67D7C0D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92B2E-0173-4802-B37B-07CB5053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0F21-10C4-42AB-B063-DCBEE59F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EDE34-48C1-4710-9EAE-41CA517B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775-FA48-463D-BD64-C4C19593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86A9-0252-44EB-9332-C26AE51E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28AE7-7434-4A2A-A48A-4076F394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1784B-47C2-44C1-A0AD-D5708FAF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EDF6-7202-43A3-8EC9-048042F1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7C0D-E0ED-4609-B349-9A51274C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6ED4-6705-4DD6-8A66-AF844EF9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891A-CF9F-47BB-9C8C-20F765AE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1E5C-1ACD-46CC-A388-BDE0A538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F9CF6-B618-4219-A64B-92D62747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E9F25-64C1-4F06-BF45-902C2B9A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D00-7953-4062-BAD7-5E714D67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9FA7-6917-42AE-B3BD-CA201F0A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C0864-9AE7-4715-AD7C-8CC44F87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BEB7A-F44D-4E19-9165-B2CB2EEB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030A-FC34-4941-AF14-E2210824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EC51-AACB-4652-83D9-BE8618EA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C70C-AA25-4152-8768-74C10F3A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D711-7AE3-4D52-AEE6-45847C6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44B6F-1B8D-4756-8C70-BB15E2A3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4481E-9DF3-4615-86D4-B2811736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A64F-D70D-4059-9F68-23F41E0B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F84-29B3-4390-ADDE-F036FF22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BAE19-0B53-49F0-AF24-8A0B1EFA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14CF0-4D99-4947-8640-5C7CBD1B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06639-D326-4B89-BA7D-0EFBBDD4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30ABC-D8B1-490A-9247-4334CF16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12CE-5501-485F-B658-1177172A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89ACA-7BD3-4A1F-A827-48252B8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1AA85-DF1E-4173-869D-2E2B4943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8C80-D5F8-4153-A54B-E4B62134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FC44F-D3BD-45CB-9037-B9A127B1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2343D-69CF-496F-8FCA-A49B6BCA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116-A1E7-4B1B-80F2-5C169BC3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9B71-17D0-4E05-8C47-364AE27C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F4529-0CCE-4F5F-B4DF-4D2FFC72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EC24F-F5F7-46AA-8D44-2CF8F0F4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CF8C-9908-476F-97A5-9A94DBC0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70E83-1E51-4358-8B58-01E15CE4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03B95-9973-47D6-9BF5-63FD853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5EEF7-1F79-4312-9CF3-9C428CBC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7291C-656E-4D4D-B349-A257F6A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9AC7-C9DB-430B-8BA6-F475760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C8D6-1D1A-403A-AAB7-9DC4CD2F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3D5-426D-4686-AF84-84D1C913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65E01-8EA2-48A6-848E-95778126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49A4-5FD5-44F3-8097-DDA96ECD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49A4F-7A83-4AE3-8D35-19115442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9C8-8904-4B01-8342-1131EF18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3CA-C6EB-4A41-A216-E550C82B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F81A-9A65-41A3-A158-47C6ADB3ED2D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8527-2F6E-4A02-A28B-C2AB7D46974A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4F26-9359-4890-9DD9-ED810C16E664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3E2D-07C5-4E60-BC33-746F3E023647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AF2F-DF00-4AC0-A5A9-03C951B653CE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ECDF-03BA-49B6-B6B8-EDA217470742}" type="slidenum">
              <a:rPr b="0" lang="en-A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image" Target="../media/image2.jpeg"/><Relationship Id="rId11" Type="http://schemas.openxmlformats.org/officeDocument/2006/relationships/slide" Target="slide10.xml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341280" y="96840"/>
            <a:ext cx="8418600" cy="16653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8400" y="1285920"/>
            <a:ext cx="407196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By-l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Bi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La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Ay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A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Qu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Fede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Election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Kevin Rudd"/>
          <p:cNvPicPr/>
          <p:nvPr/>
        </p:nvPicPr>
        <p:blipFill>
          <a:blip r:embed="rId10"/>
          <a:stretch/>
        </p:blipFill>
        <p:spPr>
          <a:xfrm>
            <a:off x="4786200" y="2143080"/>
            <a:ext cx="3148200" cy="31482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5"/>
          <p:cNvSpPr/>
          <p:nvPr/>
        </p:nvSpPr>
        <p:spPr>
          <a:xfrm>
            <a:off x="7715160" y="60721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c8c3"/>
                </a:solidFill>
                <a:uFillTx/>
                <a:latin typeface="Arial"/>
                <a:hlinkClick r:id="rId11" action="ppaction://hlinksldjump"/>
              </a:rPr>
              <a:t>End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365040" y="3408480"/>
            <a:ext cx="6973920" cy="20113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00b0f0"/>
                </a:solidFill>
                <a:latin typeface="Arial"/>
              </a:rPr>
              <a:t>The en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2" descr="C:\Program Files\Microsoft Office\Media\CntCD1\Animated\j0236322.gif"/>
          <p:cNvPicPr/>
          <p:nvPr/>
        </p:nvPicPr>
        <p:blipFill>
          <a:blip r:embed="rId2"/>
          <a:stretch/>
        </p:blipFill>
        <p:spPr>
          <a:xfrm>
            <a:off x="6000840" y="357120"/>
            <a:ext cx="2852640" cy="2643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d:\Users\harrisonv.STAWELL-PS\AppData\Local\Microsoft\Windows\Temporary Internet Files\Content.IE5\CCLVLYZ0\MCj04420240000[1].wmf"/>
          <p:cNvPicPr/>
          <p:nvPr/>
        </p:nvPicPr>
        <p:blipFill>
          <a:blip r:embed="rId3"/>
          <a:stretch/>
        </p:blipFill>
        <p:spPr>
          <a:xfrm>
            <a:off x="428760" y="785880"/>
            <a:ext cx="2571480" cy="18190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357120" y="5643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nd  sh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By-la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599840"/>
            <a:ext cx="74674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 by-law is a local or council government law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3" descr="C:\Program Files\Microsoft Office\Media\CntCD1\ClipArt7\j0339254.wmf"/>
          <p:cNvPicPr/>
          <p:nvPr/>
        </p:nvPicPr>
        <p:blipFill>
          <a:blip r:embed="rId2"/>
          <a:stretch/>
        </p:blipFill>
        <p:spPr>
          <a:xfrm>
            <a:off x="6000840" y="1998720"/>
            <a:ext cx="2765160" cy="2770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Bil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 bill is a proposal to change laws or to make law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C:\Program Files\Microsoft Office\Media\CntCD1\Animated\j0219098.gif"/>
          <p:cNvPicPr/>
          <p:nvPr/>
        </p:nvPicPr>
        <p:blipFill>
          <a:blip r:embed="rId1"/>
          <a:stretch/>
        </p:blipFill>
        <p:spPr>
          <a:xfrm>
            <a:off x="6357960" y="2714760"/>
            <a:ext cx="2236680" cy="2585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La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 Law is a rule or lots of rules made by the gover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2" descr="C:\Program Files\Microsoft Office\Media\CntCD1\ClipArt7\j0339254.wmf"/>
          <p:cNvPicPr/>
          <p:nvPr/>
        </p:nvPicPr>
        <p:blipFill>
          <a:blip r:embed="rId1"/>
          <a:stretch/>
        </p:blipFill>
        <p:spPr>
          <a:xfrm>
            <a:off x="6413400" y="2714760"/>
            <a:ext cx="2730600" cy="2735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Ay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n Aye is someone in the government  who votes y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C:\Program Files\Microsoft Office\Media\CntCD1\ClipArt5\j0280925.wmf"/>
          <p:cNvPicPr/>
          <p:nvPr/>
        </p:nvPicPr>
        <p:blipFill>
          <a:blip r:embed="rId1"/>
          <a:stretch/>
        </p:blipFill>
        <p:spPr>
          <a:xfrm>
            <a:off x="6381720" y="3184560"/>
            <a:ext cx="1943280" cy="2014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Ac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n act is a law made by Parliament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3" descr="C:\Program Files\Microsoft Office\Media\CntCD1\ClipArt7\j0339254.wmf"/>
          <p:cNvPicPr/>
          <p:nvPr/>
        </p:nvPicPr>
        <p:blipFill>
          <a:blip r:embed="rId1"/>
          <a:stretch/>
        </p:blipFill>
        <p:spPr>
          <a:xfrm>
            <a:off x="6357960" y="2928960"/>
            <a:ext cx="2297160" cy="2301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Quee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The Queen is Australia's ruler. Her title since 1973 has been ‘Elizabeth the Seco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d:\Users\harrisonv.STAWELL-PS\AppData\Local\Microsoft\Windows\Temporary Internet Files\Content.IE5\5CTK9SDO\MCj04059120000[1].wmf"/>
          <p:cNvPicPr/>
          <p:nvPr/>
        </p:nvPicPr>
        <p:blipFill>
          <a:blip r:embed="rId1"/>
          <a:stretch/>
        </p:blipFill>
        <p:spPr>
          <a:xfrm>
            <a:off x="5958000" y="2827440"/>
            <a:ext cx="240012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Feder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93400" y="1106640"/>
            <a:ext cx="76359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Federal is the Parliament of Australia and the Australian Government both toge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2" descr="C:\Program Files\Microsoft Office\Media\CntCD1\ClipArt1\j0186152.wmf"/>
          <p:cNvPicPr/>
          <p:nvPr/>
        </p:nvPicPr>
        <p:blipFill>
          <a:blip r:embed="rId1"/>
          <a:stretch/>
        </p:blipFill>
        <p:spPr>
          <a:xfrm>
            <a:off x="5500800" y="2786040"/>
            <a:ext cx="1141200" cy="1806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Program Files\Microsoft Office\Media\CntCD1\ClipArt3\j0233442.wmf"/>
          <p:cNvPicPr/>
          <p:nvPr/>
        </p:nvPicPr>
        <p:blipFill>
          <a:blip r:embed="rId2"/>
          <a:stretch/>
        </p:blipFill>
        <p:spPr>
          <a:xfrm>
            <a:off x="6707160" y="2786040"/>
            <a:ext cx="2436840" cy="1936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b0f0"/>
                </a:solidFill>
                <a:latin typeface="Franklin Gothic Book"/>
              </a:rPr>
              <a:t>Ele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An Election is when people run* for prime minister. the people in that state vote for their favourit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*(run means go for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back to gloss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C:\Program Files\Microsoft Office\Media\CntCD1\ClipArt5\j0280925.wmf"/>
          <p:cNvPicPr/>
          <p:nvPr/>
        </p:nvPicPr>
        <p:blipFill>
          <a:blip r:embed="rId1"/>
          <a:stretch/>
        </p:blipFill>
        <p:spPr>
          <a:xfrm>
            <a:off x="5448240" y="3355920"/>
            <a:ext cx="1943280" cy="201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6:26Z</dcterms:created>
  <dc:creator>Education</dc:creator>
  <dc:description/>
  <dc:language>en-US</dc:language>
  <cp:lastModifiedBy>Education</cp:lastModifiedBy>
  <dcterms:modified xsi:type="dcterms:W3CDTF">2009-10-20T23:29:57Z</dcterms:modified>
  <cp:revision>7</cp:revision>
  <dc:subject/>
  <dc:title>Government glossary</dc:title>
</cp:coreProperties>
</file>